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8.jpeg" ContentType="image/jpeg"/>
  <Override PartName="/ppt/media/image10.jpeg" ContentType="image/jpeg"/>
  <Override PartName="/ppt/media/image12.jpeg" ContentType="image/jpeg"/>
  <Override PartName="/ppt/media/image17.wmf" ContentType="image/x-wmf"/>
  <Override PartName="/ppt/media/image16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wmf" ContentType="image/x-wmf"/>
  <Override PartName="/ppt/media/image4.wmf" ContentType="image/x-wmf"/>
  <Override PartName="/ppt/media/image18.wmf" ContentType="image/x-wmf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15.wmf" ContentType="image/x-wmf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1A2D3-CDF7-4E22-8F7A-BC7FB19D2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1A0BC-332B-4EE8-B04F-D00181FAC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A2681-2CA9-43A7-B995-9443E4D00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3B617-D5CD-428F-B5F9-E0142BD44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6892C-8CEE-4FE5-919C-FE3EA4488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EF00F-6DD2-427C-845D-639836096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EA73E-C255-41D7-B8E6-5CE39AD00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20DD3-2E82-4D24-8FB1-B963BA55A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0949A-C67F-4D5B-9CB0-5B4748F86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8E909-9F73-4D95-8746-D57FEE296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F97A5-4560-45DC-9939-D98FE33B3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BD61D-FA06-4FB3-B278-B0B8E8925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0B348-76C5-4786-B1F3-9E0818C812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0.jpeg"/><Relationship Id="rId3" Type="http://schemas.openxmlformats.org/officeDocument/2006/relationships/image" Target="../media/image3.jpe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lly the Parro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  <a:ea typeface="宋体"/>
              </a:rPr>
              <a:t>Polly </a:t>
            </a:r>
            <a:r>
              <a:rPr b="0" lang="zh-CN" sz="3200" spc="-1" strike="noStrike">
                <a:solidFill>
                  <a:srgbClr val="898989"/>
                </a:solidFill>
                <a:latin typeface="Calibri"/>
                <a:ea typeface="宋体"/>
              </a:rPr>
              <a:t>鹦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Recorded Sound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3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3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000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dogs name is Charlie.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Calibri"/>
                <a:ea typeface="宋体"/>
              </a:rPr>
              <a:t>狗叫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宋体"/>
              </a:rPr>
              <a:t>charli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Content Placeholder 3" descr="6675132160dscf0071.jpg"/>
          <p:cNvPicPr/>
          <p:nvPr/>
        </p:nvPicPr>
        <p:blipFill>
          <a:blip r:embed="rId1"/>
          <a:stretch/>
        </p:blipFill>
        <p:spPr>
          <a:xfrm>
            <a:off x="1714680" y="1887480"/>
            <a:ext cx="5715000" cy="3949920"/>
          </a:xfrm>
          <a:prstGeom prst="rect">
            <a:avLst/>
          </a:prstGeom>
          <a:ln w="0">
            <a:noFill/>
          </a:ln>
        </p:spPr>
      </p:pic>
      <p:pic>
        <p:nvPicPr>
          <p:cNvPr id="73" name="Recorded Sound" descr=""/>
          <p:cNvPicPr/>
          <p:nvPr/>
        </p:nvPicPr>
        <p:blipFill>
          <a:blip r:embed="rId2"/>
          <a:stretch/>
        </p:blipFill>
        <p:spPr>
          <a:xfrm>
            <a:off x="533520" y="35812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restart="whenNotActive" nodeType="interactiveSeq" fill="hold">
                <p:stCondLst>
                  <p:cond evt="onClick">
                    <p:tgtEl>
                      <p:spTgt spid="73"/>
                    </p:tgtEl>
                  </p:cond>
                </p:stCondLst>
                <p:childTnLst>
                  <p:par>
                    <p:cTn id="57" fill="hold">
                      <p:stCondLst>
                        <p:cond evt="onClick">
                          <p:tgtEl>
                            <p:spTgt spid="73"/>
                          </p:tgtEl>
                        </p:cond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6000" fill="hold"/>
                                        <p:tgtEl>
                                          <p:spTgt spid="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lizards name is Devo.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Calibri"/>
                <a:ea typeface="宋体"/>
              </a:rPr>
              <a:t>蜥蜴叫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宋体"/>
              </a:rPr>
              <a:t>dev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Content Placeholder 3" descr="gecko.jpg"/>
          <p:cNvPicPr/>
          <p:nvPr/>
        </p:nvPicPr>
        <p:blipFill>
          <a:blip r:embed="rId1"/>
          <a:stretch/>
        </p:blipFill>
        <p:spPr>
          <a:xfrm>
            <a:off x="3462480" y="2433600"/>
            <a:ext cx="2219040" cy="2857680"/>
          </a:xfrm>
          <a:prstGeom prst="rect">
            <a:avLst/>
          </a:prstGeom>
          <a:ln w="0">
            <a:noFill/>
          </a:ln>
        </p:spPr>
      </p:pic>
      <p:pic>
        <p:nvPicPr>
          <p:cNvPr id="76" name="Recorded Sound" descr=""/>
          <p:cNvPicPr/>
          <p:nvPr/>
        </p:nvPicPr>
        <p:blipFill>
          <a:blip r:embed="rId2"/>
          <a:stretch/>
        </p:blipFill>
        <p:spPr>
          <a:xfrm>
            <a:off x="533520" y="34290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restart="whenNotActive" nodeType="interactiveSeq" fill="hold">
                <p:stCondLst>
                  <p:cond evt="onClick">
                    <p:tgtEl>
                      <p:spTgt spid="76"/>
                    </p:tgtEl>
                  </p:cond>
                </p:stCondLst>
                <p:childTnLst>
                  <p:par>
                    <p:cTn id="63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4000" fill="hold"/>
                                        <p:tgtEl>
                                          <p:spTgt spid="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5" descr="gecko.jpg"/>
          <p:cNvPicPr/>
          <p:nvPr/>
        </p:nvPicPr>
        <p:blipFill>
          <a:blip r:embed="rId1"/>
          <a:stretch/>
        </p:blipFill>
        <p:spPr>
          <a:xfrm>
            <a:off x="7086600" y="1295280"/>
            <a:ext cx="1863720" cy="240048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olly, Charlie, and Devo are all friend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olly,charlie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  <a:ea typeface="宋体"/>
              </a:rPr>
              <a:t>和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宋体"/>
              </a:rPr>
              <a:t>devo 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  <a:ea typeface="宋体"/>
              </a:rPr>
              <a:t>都是朋友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Content Placeholder 3" descr="6675132160dscf0071.jpg"/>
          <p:cNvPicPr/>
          <p:nvPr/>
        </p:nvPicPr>
        <p:blipFill>
          <a:blip r:embed="rId2"/>
          <a:stretch/>
        </p:blipFill>
        <p:spPr>
          <a:xfrm>
            <a:off x="-533520" y="2133720"/>
            <a:ext cx="5715000" cy="39495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4" descr="DSC07945.jpg"/>
          <p:cNvPicPr/>
          <p:nvPr/>
        </p:nvPicPr>
        <p:blipFill>
          <a:blip r:embed="rId3"/>
          <a:stretch/>
        </p:blipFill>
        <p:spPr>
          <a:xfrm>
            <a:off x="3962520" y="1996920"/>
            <a:ext cx="3644640" cy="4861080"/>
          </a:xfrm>
          <a:prstGeom prst="rect">
            <a:avLst/>
          </a:prstGeom>
          <a:ln w="0">
            <a:noFill/>
          </a:ln>
        </p:spPr>
      </p:pic>
      <p:pic>
        <p:nvPicPr>
          <p:cNvPr id="81" name="Recorded Sound" descr=""/>
          <p:cNvPicPr/>
          <p:nvPr/>
        </p:nvPicPr>
        <p:blipFill>
          <a:blip r:embed="rId4"/>
          <a:stretch/>
        </p:blipFill>
        <p:spPr>
          <a:xfrm>
            <a:off x="0" y="1523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restart="whenNotActive" nodeType="interactiveSeq" fill="hold">
                <p:stCondLst>
                  <p:cond evt="onClick">
                    <p:tgtEl>
                      <p:spTgt spid="81"/>
                    </p:tgtEl>
                  </p:cond>
                </p:stCondLst>
                <p:childTnLst>
                  <p:par>
                    <p:cTn id="69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5000" fill="hold"/>
                                        <p:tgtEl>
                                          <p:spTgt spid="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y go to the beach.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Calibri"/>
                <a:ea typeface="宋体"/>
              </a:rPr>
              <a:t>他们去沙滩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Content Placeholder 3" descr="AitutakiCookIslands.jpg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  <p:pic>
        <p:nvPicPr>
          <p:cNvPr id="84" name="Recorded Sound" descr=""/>
          <p:cNvPicPr/>
          <p:nvPr/>
        </p:nvPicPr>
        <p:blipFill>
          <a:blip r:embed="rId2"/>
          <a:stretch/>
        </p:blipFill>
        <p:spPr>
          <a:xfrm>
            <a:off x="380880" y="35053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restart="whenNotActive" nodeType="interactiveSeq" fill="hold">
                <p:stCondLst>
                  <p:cond evt="onClick">
                    <p:tgtEl>
                      <p:spTgt spid="84"/>
                    </p:tgtEl>
                  </p:cond>
                </p:stCondLst>
                <p:childTnLst>
                  <p:par>
                    <p:cTn id="75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" dur="3000" fill="hold"/>
                                        <p:tgtEl>
                                          <p:spTgt spid="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y eat rice together.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Calibri"/>
                <a:ea typeface="宋体"/>
              </a:rPr>
              <a:t>他们一起吃饭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5" descr="C:\Users\Jordan\AppData\Local\Microsoft\Windows\Temporary Internet Files\Content.IE5\IUMJEDN0\MCj04119060000[1].wmf"/>
          <p:cNvPicPr/>
          <p:nvPr/>
        </p:nvPicPr>
        <p:blipFill>
          <a:blip r:embed="rId1"/>
          <a:stretch/>
        </p:blipFill>
        <p:spPr>
          <a:xfrm>
            <a:off x="3218040" y="2071800"/>
            <a:ext cx="2528640" cy="3456000"/>
          </a:xfrm>
          <a:prstGeom prst="rect">
            <a:avLst/>
          </a:prstGeom>
          <a:ln w="0">
            <a:noFill/>
          </a:ln>
        </p:spPr>
      </p:pic>
      <p:pic>
        <p:nvPicPr>
          <p:cNvPr id="88" name="Recorded Sound" descr=""/>
          <p:cNvPicPr/>
          <p:nvPr/>
        </p:nvPicPr>
        <p:blipFill>
          <a:blip r:embed="rId2"/>
          <a:stretch/>
        </p:blipFill>
        <p:spPr>
          <a:xfrm>
            <a:off x="0" y="33526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restart="whenNotActive" nodeType="interactiveSeq" fill="hold">
                <p:stCondLst>
                  <p:cond evt="onClick">
                    <p:tgtEl>
                      <p:spTgt spid="88"/>
                    </p:tgtEl>
                  </p:cond>
                </p:stCondLst>
                <p:childTnLst>
                  <p:par>
                    <p:cTn id="81" fill="hold">
                      <p:stCondLst>
                        <p:cond evt="onClick">
                          <p:tgtEl>
                            <p:spTgt spid="88"/>
                          </p:tgtEl>
                        </p:cond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" dur="4000" fill="hold"/>
                                        <p:tgtEl>
                                          <p:spTgt spid="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ut one day, Charlie moved away.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Calibri"/>
                <a:ea typeface="宋体"/>
              </a:rPr>
              <a:t>但是有一天，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宋体"/>
              </a:rPr>
              <a:t>charlie</a:t>
            </a:r>
            <a:r>
              <a:rPr b="0" lang="zh-CN" sz="4400" spc="-1" strike="noStrike">
                <a:solidFill>
                  <a:srgbClr val="000000"/>
                </a:solidFill>
                <a:latin typeface="Calibri"/>
                <a:ea typeface="宋体"/>
              </a:rPr>
              <a:t>搬走了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4" descr="C:\Users\Jordan\AppData\Local\Microsoft\Windows\Temporary Internet Files\Content.IE5\3YZ8WQAJ\MPj03995570000[1].jpg"/>
          <p:cNvPicPr/>
          <p:nvPr/>
        </p:nvPicPr>
        <p:blipFill>
          <a:blip r:embed="rId1"/>
          <a:stretch/>
        </p:blipFill>
        <p:spPr>
          <a:xfrm>
            <a:off x="2595600" y="2328840"/>
            <a:ext cx="3902040" cy="3121200"/>
          </a:xfrm>
          <a:prstGeom prst="rect">
            <a:avLst/>
          </a:prstGeom>
          <a:ln w="0">
            <a:noFill/>
          </a:ln>
        </p:spPr>
      </p:pic>
      <p:pic>
        <p:nvPicPr>
          <p:cNvPr id="92" name="Recorded Sound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restart="whenNotActive" nodeType="interactiveSeq" fill="hold">
                <p:stCondLst>
                  <p:cond evt="onClick">
                    <p:tgtEl>
                      <p:spTgt spid="92"/>
                    </p:tgtEl>
                  </p:cond>
                </p:stCondLst>
                <p:childTnLst>
                  <p:par>
                    <p:cTn id="87" fill="hold">
                      <p:stCondLst>
                        <p:cond evt="onClick">
                          <p:tgtEl>
                            <p:spTgt spid="92"/>
                          </p:tgtEl>
                        </p:cond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" dur="5000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lly and Devo were sad.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宋体"/>
              </a:rPr>
              <a:t>Polly</a:t>
            </a:r>
            <a:r>
              <a:rPr b="0" lang="zh-CN" sz="4400" spc="-1" strike="noStrike">
                <a:solidFill>
                  <a:srgbClr val="000000"/>
                </a:solidFill>
                <a:latin typeface="Calibri"/>
                <a:ea typeface="宋体"/>
              </a:rPr>
              <a:t>和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宋体"/>
              </a:rPr>
              <a:t>devo</a:t>
            </a:r>
            <a:r>
              <a:rPr b="0" lang="zh-CN" sz="4400" spc="-1" strike="noStrike">
                <a:solidFill>
                  <a:srgbClr val="000000"/>
                </a:solidFill>
                <a:latin typeface="Calibri"/>
                <a:ea typeface="宋体"/>
              </a:rPr>
              <a:t>很伤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Content Placeholder 3" descr="DSC07945.jpg"/>
          <p:cNvPicPr/>
          <p:nvPr/>
        </p:nvPicPr>
        <p:blipFill>
          <a:blip r:embed="rId1"/>
          <a:stretch/>
        </p:blipFill>
        <p:spPr>
          <a:xfrm>
            <a:off x="2874960" y="1600200"/>
            <a:ext cx="3394080" cy="4525920"/>
          </a:xfrm>
          <a:prstGeom prst="rect">
            <a:avLst/>
          </a:prstGeom>
          <a:ln w="0">
            <a:noFill/>
          </a:ln>
        </p:spPr>
      </p:pic>
      <p:sp>
        <p:nvSpPr>
          <p:cNvPr id="95" name="Teardrop 4"/>
          <p:cNvSpPr/>
          <p:nvPr/>
        </p:nvSpPr>
        <p:spPr>
          <a:xfrm rot="17677200">
            <a:off x="4490640" y="3593520"/>
            <a:ext cx="435240" cy="387360"/>
          </a:xfrm>
          <a:custGeom>
            <a:avLst/>
            <a:gdLst>
              <a:gd name="textAreaLeft" fmla="*/ 63720 w 435240"/>
              <a:gd name="textAreaRight" fmla="*/ 371520 w 435240"/>
              <a:gd name="textAreaTop" fmla="*/ 56520 h 387360"/>
              <a:gd name="textAreaBottom" fmla="*/ 330840 h 387360"/>
            </a:gdLst>
            <a:ahLst/>
            <a:rect l="textAreaLeft" t="textAreaTop" r="textAreaRight" b="textAreaBottom"/>
            <a:pathLst>
              <a:path w="434975" h="387350">
                <a:moveTo>
                  <a:pt x="0" y="193675"/>
                </a:moveTo>
                <a:lnTo>
                  <a:pt x="0" y="193675"/>
                </a:lnTo>
                <a:arcTo wR="217488" hR="193675" stAng="10800000" swAng="5400000"/>
                <a:lnTo>
                  <a:pt x="326231" y="0"/>
                </a:lnTo>
                <a:lnTo>
                  <a:pt x="434975" y="0"/>
                </a:lnTo>
                <a:lnTo>
                  <a:pt x="434975" y="145256"/>
                </a:lnTo>
                <a:arcTo wR="0" hR="48419" stAng="0" swAng="0"/>
                <a:lnTo>
                  <a:pt x="403125" y="358987"/>
                </a:lnTo>
                <a:arcTo wR="-108744" hR="96838" stAng="2501121" swAng="10800000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Recorded Sound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restart="whenNotActive" nodeType="interactiveSeq" fill="hold">
                <p:stCondLst>
                  <p:cond evt="onClick">
                    <p:tgtEl>
                      <p:spTgt spid="96"/>
                    </p:tgtEl>
                  </p:cond>
                </p:stCondLst>
                <p:childTnLst>
                  <p:par>
                    <p:cTn id="93" fill="hold">
                      <p:stCondLst>
                        <p:cond evt="onClick">
                          <p:tgtEl>
                            <p:spTgt spid="96"/>
                          </p:tgtEl>
                        </p:cond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6" dur="4000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But Charlie was only going to the supermarket.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Calibri"/>
                <a:ea typeface="宋体"/>
              </a:rPr>
              <a:t>但是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宋体"/>
              </a:rPr>
              <a:t>charlie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  <a:ea typeface="宋体"/>
              </a:rPr>
              <a:t>只是去市场而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4" descr="C:\Users\Jordan\AppData\Local\Microsoft\Windows\Temporary Internet Files\Content.IE5\IUMJEDN0\MCFD02174_0000[1].wmf"/>
          <p:cNvPicPr/>
          <p:nvPr/>
        </p:nvPicPr>
        <p:blipFill>
          <a:blip r:embed="rId1"/>
          <a:stretch/>
        </p:blipFill>
        <p:spPr>
          <a:xfrm>
            <a:off x="2590920" y="1752480"/>
            <a:ext cx="4267080" cy="3943440"/>
          </a:xfrm>
          <a:prstGeom prst="rect">
            <a:avLst/>
          </a:prstGeom>
          <a:ln w="0">
            <a:noFill/>
          </a:ln>
        </p:spPr>
      </p:pic>
      <p:pic>
        <p:nvPicPr>
          <p:cNvPr id="100" name="Recorded Sound" descr=""/>
          <p:cNvPicPr/>
          <p:nvPr/>
        </p:nvPicPr>
        <p:blipFill>
          <a:blip r:embed="rId2"/>
          <a:stretch/>
        </p:blipFill>
        <p:spPr>
          <a:xfrm>
            <a:off x="152280" y="4114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99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2" dur="4000" fill="hold"/>
                                        <p:tgtEl>
                                          <p:spTgt spid="1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He was buying food for their next party.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Calibri"/>
                <a:ea typeface="宋体"/>
              </a:rPr>
              <a:t>他在为派对买吃的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Content Placeholder 3" descr="100_1768.jpg"/>
          <p:cNvPicPr/>
          <p:nvPr/>
        </p:nvPicPr>
        <p:blipFill>
          <a:blip r:embed="rId1"/>
          <a:stretch/>
        </p:blipFill>
        <p:spPr>
          <a:xfrm>
            <a:off x="2133720" y="1981080"/>
            <a:ext cx="4925880" cy="3686400"/>
          </a:xfrm>
          <a:prstGeom prst="rect">
            <a:avLst/>
          </a:prstGeom>
          <a:ln w="0">
            <a:noFill/>
          </a:ln>
        </p:spPr>
      </p:pic>
      <p:pic>
        <p:nvPicPr>
          <p:cNvPr id="103" name="Recorded Sound" descr=""/>
          <p:cNvPicPr/>
          <p:nvPr/>
        </p:nvPicPr>
        <p:blipFill>
          <a:blip r:embed="rId2"/>
          <a:stretch/>
        </p:blipFill>
        <p:spPr>
          <a:xfrm>
            <a:off x="152280" y="4724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restart="whenNotActive" nodeType="interactiveSeq" fill="hold">
                <p:stCondLst>
                  <p:cond evt="onClick">
                    <p:tgtEl>
                      <p:spTgt spid="103"/>
                    </p:tgtEl>
                  </p:cond>
                </p:stCondLst>
                <p:childTnLst>
                  <p:par>
                    <p:cTn id="105" fill="hold">
                      <p:stCondLst>
                        <p:cond evt="onClick">
                          <p:tgtEl>
                            <p:spTgt spid="103"/>
                          </p:tgtEl>
                        </p:cond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8" dur="4000" fill="hold"/>
                                        <p:tgtEl>
                                          <p:spTgt spid="1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olly and Charlie were happy again.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宋体"/>
              </a:rPr>
              <a:t>Polly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  <a:ea typeface="宋体"/>
              </a:rPr>
              <a:t>和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宋体"/>
              </a:rPr>
              <a:t>charlie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  <a:ea typeface="宋体"/>
              </a:rPr>
              <a:t>又高兴起来了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4" descr="C:\Users\Jordan\AppData\Local\Microsoft\Windows\Temporary Internet Files\Content.IE5\L0AZL5IH\MCj04382050000[1].wmf"/>
          <p:cNvPicPr/>
          <p:nvPr/>
        </p:nvPicPr>
        <p:blipFill>
          <a:blip r:embed="rId1"/>
          <a:stretch/>
        </p:blipFill>
        <p:spPr>
          <a:xfrm>
            <a:off x="2362320" y="1752480"/>
            <a:ext cx="4049640" cy="4056120"/>
          </a:xfrm>
          <a:prstGeom prst="rect">
            <a:avLst/>
          </a:prstGeom>
          <a:ln w="0">
            <a:noFill/>
          </a:ln>
        </p:spPr>
      </p:pic>
      <p:pic>
        <p:nvPicPr>
          <p:cNvPr id="107" name="Recorded Sound" descr=""/>
          <p:cNvPicPr/>
          <p:nvPr/>
        </p:nvPicPr>
        <p:blipFill>
          <a:blip r:embed="rId2"/>
          <a:stretch/>
        </p:blipFill>
        <p:spPr>
          <a:xfrm>
            <a:off x="152280" y="4114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111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4" dur="5000" fill="hold"/>
                                        <p:tgtEl>
                                          <p:spTgt spid="1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re was a bird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有只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4" descr="C:\Users\Jordan\AppData\Local\Microsoft\Windows\Temporary Internet Files\Content.IE5\L0AZL5IH\MCj04345930000[1].wmf"/>
          <p:cNvPicPr/>
          <p:nvPr/>
        </p:nvPicPr>
        <p:blipFill>
          <a:blip r:embed="rId1"/>
          <a:stretch/>
        </p:blipFill>
        <p:spPr>
          <a:xfrm>
            <a:off x="3505320" y="2819520"/>
            <a:ext cx="1954080" cy="2990880"/>
          </a:xfrm>
          <a:prstGeom prst="rect">
            <a:avLst/>
          </a:prstGeom>
          <a:ln w="0">
            <a:noFill/>
          </a:ln>
        </p:spPr>
      </p:pic>
      <p:pic>
        <p:nvPicPr>
          <p:cNvPr id="47" name="Recorded Sound" descr=""/>
          <p:cNvPicPr/>
          <p:nvPr/>
        </p:nvPicPr>
        <p:blipFill>
          <a:blip r:embed="rId2"/>
          <a:stretch/>
        </p:blipFill>
        <p:spPr>
          <a:xfrm>
            <a:off x="0" y="3809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47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47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3000" fill="hold"/>
                                        <p:tgtEl>
                                          <p:spTgt spid="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olly, Charlie, and Devo had a fun party.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宋体"/>
              </a:rPr>
              <a:t>Polly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  <a:ea typeface="宋体"/>
              </a:rPr>
              <a:t>，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宋体"/>
              </a:rPr>
              <a:t>charlie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  <a:ea typeface="宋体"/>
              </a:rPr>
              <a:t>和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宋体"/>
              </a:rPr>
              <a:t>devo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  <a:ea typeface="宋体"/>
              </a:rPr>
              <a:t>在派对上玩的很开心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5" descr="C:\Users\Jordan\AppData\Local\Microsoft\Windows\Temporary Internet Files\Content.IE5\CNLWL126\MCj04135780000[1].wmf"/>
          <p:cNvPicPr/>
          <p:nvPr/>
        </p:nvPicPr>
        <p:blipFill>
          <a:blip r:embed="rId1"/>
          <a:stretch/>
        </p:blipFill>
        <p:spPr>
          <a:xfrm>
            <a:off x="3137040" y="2162160"/>
            <a:ext cx="3154320" cy="3454560"/>
          </a:xfrm>
          <a:prstGeom prst="rect">
            <a:avLst/>
          </a:prstGeom>
          <a:ln w="0">
            <a:noFill/>
          </a:ln>
        </p:spPr>
      </p:pic>
      <p:pic>
        <p:nvPicPr>
          <p:cNvPr id="111" name="Recorded Sound" descr=""/>
          <p:cNvPicPr/>
          <p:nvPr/>
        </p:nvPicPr>
        <p:blipFill>
          <a:blip r:embed="rId2"/>
          <a:stretch/>
        </p:blipFill>
        <p:spPr>
          <a:xfrm>
            <a:off x="763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117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0" dur="6000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he was a parrot.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Calibri"/>
                <a:ea typeface="宋体"/>
              </a:rPr>
              <a:t>它是只鹦鹉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DSC07945.jpg"/>
          <p:cNvPicPr/>
          <p:nvPr/>
        </p:nvPicPr>
        <p:blipFill>
          <a:blip r:embed="rId1"/>
          <a:stretch/>
        </p:blipFill>
        <p:spPr>
          <a:xfrm>
            <a:off x="3352680" y="1447920"/>
            <a:ext cx="3394080" cy="4525920"/>
          </a:xfrm>
          <a:prstGeom prst="rect">
            <a:avLst/>
          </a:prstGeom>
          <a:ln w="0">
            <a:noFill/>
          </a:ln>
        </p:spPr>
      </p:pic>
      <p:pic>
        <p:nvPicPr>
          <p:cNvPr id="50" name="Recorded Sound" descr=""/>
          <p:cNvPicPr/>
          <p:nvPr/>
        </p:nvPicPr>
        <p:blipFill>
          <a:blip r:embed="rId2"/>
          <a:stretch/>
        </p:blipFill>
        <p:spPr>
          <a:xfrm>
            <a:off x="304920" y="35812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50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50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4000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C:\Users\Jordan\AppData\Local\Microsoft\Windows\Temporary Internet Files\Content.IE5\L0AZL5IH\MCj03235720000[1].wmf"/>
          <p:cNvPicPr/>
          <p:nvPr/>
        </p:nvPicPr>
        <p:blipFill>
          <a:blip r:embed="rId1"/>
          <a:stretch/>
        </p:blipFill>
        <p:spPr>
          <a:xfrm>
            <a:off x="2895480" y="2057400"/>
            <a:ext cx="3459240" cy="346392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 name was Polly.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Calibri"/>
                <a:ea typeface="宋体"/>
              </a:rPr>
              <a:t>它名叫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宋体"/>
              </a:rPr>
              <a:t>poll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 rot="1243800">
            <a:off x="3970440" y="2568240"/>
            <a:ext cx="1295280" cy="71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l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Recorded Sound" descr=""/>
          <p:cNvPicPr/>
          <p:nvPr/>
        </p:nvPicPr>
        <p:blipFill>
          <a:blip r:embed="rId2"/>
          <a:stretch/>
        </p:blipFill>
        <p:spPr>
          <a:xfrm>
            <a:off x="152280" y="3809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54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54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4000" fill="hold"/>
                                        <p:tgtEl>
                                          <p:spTgt spid="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lly has 3 brothers.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宋体"/>
              </a:rPr>
              <a:t>Polly </a:t>
            </a:r>
            <a:r>
              <a:rPr b="0" lang="zh-CN" sz="4400" spc="-1" strike="noStrike">
                <a:solidFill>
                  <a:srgbClr val="000000"/>
                </a:solidFill>
                <a:latin typeface="Calibri"/>
                <a:ea typeface="宋体"/>
              </a:rPr>
              <a:t>有三个哥哥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Content Placeholder 3" descr="Parrotspainting.jpg"/>
          <p:cNvPicPr/>
          <p:nvPr/>
        </p:nvPicPr>
        <p:blipFill>
          <a:blip r:embed="rId1"/>
          <a:stretch/>
        </p:blipFill>
        <p:spPr>
          <a:xfrm>
            <a:off x="2846520" y="1600200"/>
            <a:ext cx="3450960" cy="4525920"/>
          </a:xfrm>
          <a:prstGeom prst="rect">
            <a:avLst/>
          </a:prstGeom>
          <a:ln w="0">
            <a:noFill/>
          </a:ln>
        </p:spPr>
      </p:pic>
      <p:pic>
        <p:nvPicPr>
          <p:cNvPr id="57" name="Recorded Sound" descr=""/>
          <p:cNvPicPr/>
          <p:nvPr/>
        </p:nvPicPr>
        <p:blipFill>
          <a:blip r:embed="rId2"/>
          <a:stretch/>
        </p:blipFill>
        <p:spPr>
          <a:xfrm>
            <a:off x="914400" y="36576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restart="whenNotActive" nodeType="interactiveSeq" fill="hold">
                <p:stCondLst>
                  <p:cond evt="onClick">
                    <p:tgtEl>
                      <p:spTgt spid="57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57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4000" fill="hold"/>
                                        <p:tgtEl>
                                          <p:spTgt spid="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he also has 1 sister.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Calibri"/>
                <a:ea typeface="宋体"/>
              </a:rPr>
              <a:t>也有一个姐姐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Content Placeholder 3" descr="7thJuly2008003.jpg"/>
          <p:cNvPicPr/>
          <p:nvPr/>
        </p:nvPicPr>
        <p:blipFill>
          <a:blip r:embed="rId1"/>
          <a:stretch/>
        </p:blipFill>
        <p:spPr>
          <a:xfrm>
            <a:off x="2743200" y="1752480"/>
            <a:ext cx="3276720" cy="4373640"/>
          </a:xfrm>
          <a:prstGeom prst="rect">
            <a:avLst/>
          </a:prstGeom>
          <a:ln w="0">
            <a:noFill/>
          </a:ln>
        </p:spPr>
      </p:pic>
      <p:pic>
        <p:nvPicPr>
          <p:cNvPr id="60" name="Recorded Sound" descr=""/>
          <p:cNvPicPr/>
          <p:nvPr/>
        </p:nvPicPr>
        <p:blipFill>
          <a:blip r:embed="rId2"/>
          <a:stretch/>
        </p:blipFill>
        <p:spPr>
          <a:xfrm>
            <a:off x="1066680" y="35053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restart="whenNotActive" nodeType="interactiveSeq" fill="hold">
                <p:stCondLst>
                  <p:cond evt="onClick">
                    <p:tgtEl>
                      <p:spTgt spid="60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3000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lly likes crackers.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lly</a:t>
            </a:r>
            <a:r>
              <a:rPr b="0" lang="zh-CN" sz="4400" spc="-1" strike="noStrike">
                <a:solidFill>
                  <a:srgbClr val="000000"/>
                </a:solidFill>
                <a:latin typeface="Calibri"/>
                <a:ea typeface="宋体"/>
              </a:rPr>
              <a:t>喜欢饼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Content Placeholder 4" descr="DSC07945.jpg"/>
          <p:cNvPicPr/>
          <p:nvPr/>
        </p:nvPicPr>
        <p:blipFill>
          <a:blip r:embed="rId1"/>
          <a:stretch/>
        </p:blipFill>
        <p:spPr>
          <a:xfrm>
            <a:off x="2874960" y="1600200"/>
            <a:ext cx="3394080" cy="45259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C:\Users\Jordan\AppData\Local\Microsoft\Windows\Temporary Internet Files\Content.IE5\IUMJEDN0\MCj04363730000[1].png"/>
          <p:cNvPicPr/>
          <p:nvPr/>
        </p:nvPicPr>
        <p:blipFill>
          <a:blip r:embed="rId2"/>
          <a:stretch/>
        </p:blipFill>
        <p:spPr>
          <a:xfrm>
            <a:off x="4724280" y="4648320"/>
            <a:ext cx="1714680" cy="1714320"/>
          </a:xfrm>
          <a:prstGeom prst="rect">
            <a:avLst/>
          </a:prstGeom>
          <a:ln w="0">
            <a:noFill/>
          </a:ln>
        </p:spPr>
      </p:pic>
      <p:pic>
        <p:nvPicPr>
          <p:cNvPr id="64" name="Recorded Sound" descr=""/>
          <p:cNvPicPr/>
          <p:nvPr/>
        </p:nvPicPr>
        <p:blipFill>
          <a:blip r:embed="rId3"/>
          <a:stretch/>
        </p:blipFill>
        <p:spPr>
          <a:xfrm>
            <a:off x="0" y="3581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restart="whenNotActive" nodeType="interactiveSeq" fill="hold">
                <p:stCondLst>
                  <p:cond evt="onClick">
                    <p:tgtEl>
                      <p:spTgt spid="64"/>
                    </p:tgtEl>
                  </p:cond>
                </p:stCondLst>
                <p:childTnLst>
                  <p:par>
                    <p:cTn id="39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4000" fill="hold"/>
                                        <p:tgtEl>
                                          <p:spTgt spid="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lly is smaller than a dog.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宋体"/>
              </a:rPr>
              <a:t>Polly</a:t>
            </a:r>
            <a:r>
              <a:rPr b="0" lang="zh-CN" sz="4400" spc="-1" strike="noStrike">
                <a:solidFill>
                  <a:srgbClr val="000000"/>
                </a:solidFill>
                <a:latin typeface="Calibri"/>
                <a:ea typeface="宋体"/>
              </a:rPr>
              <a:t>比狗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Content Placeholder 3" descr="0914071810-00.jpg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  <p:pic>
        <p:nvPicPr>
          <p:cNvPr id="67" name="Recorded Sound" descr=""/>
          <p:cNvPicPr/>
          <p:nvPr/>
        </p:nvPicPr>
        <p:blipFill>
          <a:blip r:embed="rId2"/>
          <a:stretch/>
        </p:blipFill>
        <p:spPr>
          <a:xfrm>
            <a:off x="762120" y="34290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restart="whenNotActive" nodeType="interactiveSeq" fill="hold">
                <p:stCondLst>
                  <p:cond evt="onClick">
                    <p:tgtEl>
                      <p:spTgt spid="67"/>
                    </p:tgtEl>
                  </p:cond>
                </p:stCondLst>
                <p:childTnLst>
                  <p:par>
                    <p:cTn id="45" fill="hold">
                      <p:stCondLst>
                        <p:cond evt="onClick">
                          <p:tgtEl>
                            <p:spTgt spid="67"/>
                          </p:tgtEl>
                        </p:cond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4000" fill="hold"/>
                                        <p:tgtEl>
                                          <p:spTgt spid="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he is bigger than a lizard.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Calibri"/>
                <a:ea typeface="宋体"/>
              </a:rPr>
              <a:t>她比蜥蜴大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Content Placeholder 3" descr="lizard_bird.jpg"/>
          <p:cNvPicPr/>
          <p:nvPr/>
        </p:nvPicPr>
        <p:blipFill>
          <a:blip r:embed="rId1"/>
          <a:stretch/>
        </p:blipFill>
        <p:spPr>
          <a:xfrm>
            <a:off x="2682720" y="1600200"/>
            <a:ext cx="3778560" cy="4525920"/>
          </a:xfrm>
          <a:prstGeom prst="rect">
            <a:avLst/>
          </a:prstGeom>
          <a:ln w="0">
            <a:noFill/>
          </a:ln>
        </p:spPr>
      </p:pic>
      <p:pic>
        <p:nvPicPr>
          <p:cNvPr id="70" name="Recorded Sound" descr=""/>
          <p:cNvPicPr/>
          <p:nvPr/>
        </p:nvPicPr>
        <p:blipFill>
          <a:blip r:embed="rId2"/>
          <a:stretch/>
        </p:blipFill>
        <p:spPr>
          <a:xfrm>
            <a:off x="0" y="32767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restart="whenNotActive" nodeType="interactiveSeq" fill="hold">
                <p:stCondLst>
                  <p:cond evt="onClick">
                    <p:tgtEl>
                      <p:spTgt spid="70"/>
                    </p:tgtEl>
                  </p:cond>
                </p:stCondLst>
                <p:childTnLst>
                  <p:par>
                    <p:cTn id="51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4000" fill="hold"/>
                                        <p:tgtEl>
                                          <p:spTgt spid="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6T18:16:19Z</dcterms:created>
  <dc:creator>itsuser</dc:creator>
  <dc:description/>
  <dc:language>en-US</dc:language>
  <cp:lastModifiedBy>itsuser</cp:lastModifiedBy>
  <dcterms:modified xsi:type="dcterms:W3CDTF">2009-05-19T16:58:14Z</dcterms:modified>
  <cp:revision>7</cp:revision>
  <dc:subject/>
  <dc:title>Polly the Parrot</dc:title>
</cp:coreProperties>
</file>